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6C76-B9AF-45C8-AE03-CF442DAB0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D715-DEAD-4493-97E6-175DC4379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99FC-6E68-4811-B311-03070710B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FAEE6-5DDA-4CEB-93A9-77A0DD6D5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A20C05-52D7-4A25-827C-0D6B537AC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35B071-79F4-4E21-87AF-A9B4E82CAA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09D2E9-87D8-4D51-B9DA-74113CD7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F97A62-349F-42C8-9EB5-403CE3DCD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AF9193-488C-40B1-8D73-E4FC06D25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BD327CD-3847-4667-BA11-B2E303C3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71FEF0-8A1D-4EC5-AABC-44A2F26CF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CAE86-7CF7-4676-BAA6-0C9121A6B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A38220-B9AF-4095-B5A3-867200BC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7AD52E-1F9C-4D37-8786-24CA36A26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33694CC-CC9B-41FC-B98F-7A01308FD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4F2346B-18EC-448A-850A-1106BD6DE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CFC60E-3902-4CDB-BDA4-F2827F7F1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F324-02DA-4E92-99D7-6A184C78F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9947-B28B-41CE-A8AD-CC97F4F42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99C5C-302B-44A0-8175-D4BC9FB2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4A75-F362-4D2E-9960-DAFD87A63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407EA-8C37-47A8-BFEF-B37DE0356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6A14-F0A3-4B93-847B-9A3CA88A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58CA-384F-4E63-86EE-B0C812110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471B3-CAF7-4495-9C4D-F0B5A15048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D2FBF8-B40C-4CF2-9236-D25F8F380A1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3e3f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39280" y="404280"/>
            <a:ext cx="813276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5400" spc="-1" strike="noStrike">
                <a:solidFill>
                  <a:srgbClr val="e3e3ff"/>
                </a:solidFill>
                <a:latin typeface="Arial"/>
              </a:rPr>
              <a:t>Сабақтың жоспары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79280" y="1267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. Ұйымдастыру кезеңі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Сабаққа кіріспе (Оқушыларды сабақтың жоспарымен, мақсатымен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таныстыр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. Үй тапсырмасын сұрау – (15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Тақырып мазмұнын сұрап шығу (дайындалып келген оқушылардан сұр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Суретпен жұмыс (құстың зәр шығару жүйесінің құрылысын атау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“Біліміңді тексер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в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ІІ. Жаңа сабақ – (20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Кіріспе сөз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Ә) Жаңа сабақты түсіндір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Б) Қорытынды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ІҮ. Жаңа сабақты пысықтау – (7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А) “Кім жылдам ойынын” өткіз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. Оқушы білімін бағалау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000" spc="-1" strike="noStrike">
                <a:solidFill>
                  <a:srgbClr val="ffffff"/>
                </a:solidFill>
                <a:latin typeface="Times New Roman"/>
              </a:rPr>
              <a:t>ҮІ. Үй тапсырмасы – (1 мину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e3e3ff"/>
                </a:solidFill>
                <a:latin typeface="Monotype Corsiva"/>
              </a:rPr>
              <a:t>Олар:</a:t>
            </a:r>
            <a:endParaRPr b="0" lang="en-US" sz="6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4000" y="1773360"/>
            <a:ext cx="3887640" cy="273528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4716360" y="1773360"/>
            <a:ext cx="4103640" cy="27352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395280" y="5084640"/>
            <a:ext cx="374508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Эритр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16360" y="5084640"/>
            <a:ext cx="4032360" cy="649440"/>
          </a:xfrm>
          <a:prstGeom prst="rect">
            <a:avLst/>
          </a:prstGeom>
          <a:solidFill>
            <a:srgbClr val="33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000000"/>
                </a:solidFill>
                <a:latin typeface="Monotype Corsiva"/>
              </a:rPr>
              <a:t>Лейкоциттер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3e3ff"/>
                </a:solidFill>
                <a:latin typeface="Monotype Corsiva"/>
              </a:rPr>
              <a:t>IV</a:t>
            </a:r>
            <a:r>
              <a:rPr b="1" lang="kk-KZ" sz="4400" spc="-1" strike="noStrike">
                <a:solidFill>
                  <a:srgbClr val="e3e3ff"/>
                </a:solidFill>
                <a:latin typeface="Monotype Corsiva"/>
              </a:rPr>
              <a:t>. Жаңа сабақты пысықтау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А) “Кім жылдым” ойыны (Оқушыларға жаңа сабақтан сұрақтар қойылады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1. Қанның құрамына қандай заттар кір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Эритр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3. Эритроциттердің организм үшін маңызы қандай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4. Лейкоциттер қандай қызмет атқарады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8440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5. Эритроциттер қандай мүшелерде түзіледі?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/>
          </p:nvPr>
        </p:nvSpPr>
        <p:spPr>
          <a:xfrm>
            <a:off x="539640" y="333360"/>
            <a:ext cx="8229600" cy="619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6. Қан газ алмасудан басқа тағы қандай қызмет атқар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7. Лейкоциттердің эритроциттерден қандай айырмашылығы бар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8. Эритроциттерді қанның қызыл түйіршігі деп неліктен атай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9.Антидене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0. Табиғи иммунитет деген не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0168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000" spc="-1" strike="noStrike">
                <a:solidFill>
                  <a:srgbClr val="ffffff"/>
                </a:solidFill>
                <a:latin typeface="Monotype Corsiva"/>
              </a:rPr>
              <a:t>11. Жасанды иммунитет қалай пайда болады?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Оқушы білімін бағала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Monotype Corsiva"/>
              </a:rPr>
              <a:t>VI</a:t>
            </a:r>
            <a:r>
              <a:rPr b="0" lang="kk-KZ" sz="7200" spc="-1" strike="noStrike">
                <a:solidFill>
                  <a:srgbClr val="ffffff"/>
                </a:solidFill>
                <a:latin typeface="Monotype Corsiva"/>
              </a:rPr>
              <a:t>. Үй тапсырмасы: 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  <a:p>
            <a:pPr marL="322200" indent="0" algn="ctr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7200" spc="-1" strike="noStrike">
                <a:solidFill>
                  <a:srgbClr val="ffffff"/>
                </a:solidFill>
                <a:latin typeface="Bookman Old Style"/>
              </a:rPr>
              <a:t> 39 оқу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39640" y="69192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Үй тапсырмасын сұрау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170028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 Тақырып мазмұнын сұрап шығу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Ә) Суретпен жұмыс (оқушыларға құстың зәр шығару жүйесінің құрылысын айтқызу)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Б) “Біліміңді тексер”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 marL="3326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Ә) Суретпен жұмыс (құстың зәр шығару жүйесінің құрылысын ата)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e3e3ff"/>
                </a:solidFill>
                <a:latin typeface="Monotype Corsiva"/>
              </a:rPr>
              <a:t>Б) “Біліміңді тексер”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 algn="ctr">
              <a:lnSpc>
                <a:spcPct val="100000"/>
              </a:lnSpc>
              <a:spcBef>
                <a:spcPts val="901"/>
              </a:spcBef>
              <a:buClr>
                <a:srgbClr val="e3e3ff"/>
              </a:buClr>
              <a:buFont typeface="Monotype Corsiv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Көпжасушалы жануарлар организмінде түзілетін сыртқа шығарылуы тиіс заттарға нелер жатады? Ол заттарды тізімнен тері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Оттегі                                              - несеп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Көмірқышқыл газы                         -  ваку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 материалдары                  - нәжі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591120" indent="-591120">
              <a:spcBef>
                <a:spcPts val="601"/>
              </a:spcBef>
              <a:buClr>
                <a:srgbClr val="e3e3ff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нның қызыл түйіршіктері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468360" y="259920"/>
            <a:ext cx="8229600" cy="626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600" spc="-1" strike="noStrike">
                <a:solidFill>
                  <a:srgbClr val="ffffff"/>
                </a:solidFill>
                <a:latin typeface="Monotype Corsiva"/>
              </a:rPr>
              <a:t>2. </a:t>
            </a: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Сол жақта көпжасушалы жануарлардың зәршығару мүшелері, оң жақта жануарлардың тізімі берілген. Зәршығару мүшелерінің қайсысы қандай жануарға тән екенін анықтап, дәптерлеріңе жазыңдар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А. Бүйрек                           1. шая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Ә. Жасыл без                    2. гидр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В. Несепағар                     3. и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Г. Жабынды қабықша       4. паразит амеб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800" spc="-1" strike="noStrike">
                <a:solidFill>
                  <a:srgbClr val="ffffff"/>
                </a:solidFill>
                <a:latin typeface="Arial"/>
              </a:rPr>
              <a:t>Ғ. Вакуоль                          5. кірпікшелі кебісш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e3e3ff"/>
                </a:solidFill>
                <a:latin typeface="Monotype Corsiva"/>
              </a:rPr>
              <a:t>Жаңа сабақ</a:t>
            </a:r>
            <a:endParaRPr b="0" lang="en-US" sz="48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3200" spc="-1" strike="noStrike">
                <a:solidFill>
                  <a:srgbClr val="ffffff"/>
                </a:solidFill>
                <a:latin typeface="Arial"/>
              </a:rPr>
              <a:t>Тақырыбы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Bookman Old Style"/>
              </a:rPr>
              <a:t>§</a:t>
            </a:r>
            <a:r>
              <a:rPr b="0" lang="kk-KZ" sz="5400" spc="-1" strike="noStrike">
                <a:solidFill>
                  <a:srgbClr val="ffffff"/>
                </a:solidFill>
                <a:latin typeface="Bookman Old Style"/>
              </a:rPr>
              <a:t> </a:t>
            </a:r>
            <a:r>
              <a:rPr b="0" lang="kk-KZ" sz="5400" spc="-1" strike="noStrike">
                <a:solidFill>
                  <a:srgbClr val="ffffff"/>
                </a:solidFill>
                <a:latin typeface="Monotype Corsiva"/>
              </a:rPr>
              <a:t>Көпжасушалы жануарлардағы қан, лимфа және қанайналымы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400" spc="-1" strike="noStrike">
                <a:solidFill>
                  <a:srgbClr val="e3e3ff"/>
                </a:solidFill>
                <a:latin typeface="Tahoma"/>
              </a:rPr>
              <a:t>Сабақтың мақсат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000" spc="-1" strike="noStrike">
                <a:solidFill>
                  <a:srgbClr val="ffffff"/>
                </a:solidFill>
                <a:latin typeface="Monotype Corsiva"/>
              </a:rPr>
              <a:t>а)Білімді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Көпжасушалы жануарлардағы қан,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лимфа және қанайналым жүйесімен,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ұрылысын оқушыларға таныстыру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Дамытушылық:</a:t>
            </a:r>
            <a:r>
              <a:rPr b="1" lang="kk-KZ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өз бетінше қорытынды жасауғ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дағдыландыру, танымдық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қабілеттерін  дамытып, ізденіске баул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Тәрбиелік: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Оқушылардың  жануарларға деген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r>
              <a:rPr b="0" lang="kk-KZ" sz="2400" spc="-1" strike="noStrike">
                <a:solidFill>
                  <a:srgbClr val="ffffff"/>
                </a:solidFill>
                <a:latin typeface="Arial"/>
              </a:rPr>
              <a:t>сүйіспеншілігін оята  отырып, тәрбиелеу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4400" spc="-1" strike="noStrike">
                <a:solidFill>
                  <a:srgbClr val="e3e3ff"/>
                </a:solidFill>
                <a:latin typeface="Monotype Corsiva"/>
              </a:rPr>
              <a:t>Жаңа сабақ жоспары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22960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А) Кіріспе сөз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Ә) Қанның организмде атқаратын қызмет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Б) Қанның құрам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В) Эритроциттер, Лейкоциттер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Организмнің қанайналым жүйесі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ffffff"/>
                </a:solidFill>
                <a:latin typeface="Monotype Corsiva"/>
              </a:rPr>
              <a:t>Г) Қорытынды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e3e3ff"/>
                </a:solidFill>
                <a:latin typeface="Monotype Corsiva"/>
              </a:rPr>
              <a:t>Қанның құрамы</a:t>
            </a:r>
            <a:endParaRPr b="0" lang="en-US" sz="36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11280" y="1125360"/>
            <a:ext cx="3600360" cy="5505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9" name=""/>
          <p:cNvGraphicFramePr/>
          <p:nvPr/>
        </p:nvGraphicFramePr>
        <p:xfrm>
          <a:off x="4716360" y="3716280"/>
          <a:ext cx="3742920" cy="2160360"/>
        </p:xfrm>
        <a:graphic>
          <a:graphicData uri="http://schemas.openxmlformats.org/drawingml/2006/table">
            <a:tbl>
              <a:tblPr/>
              <a:tblGrid>
                <a:gridCol w="1006560"/>
                <a:gridCol w="2736360"/>
              </a:tblGrid>
              <a:tr h="106884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ff"/>
                          </a:solidFill>
                          <a:latin typeface="Monotype Corsiva"/>
                          <a:ea typeface="Times New Roman"/>
                        </a:rPr>
                        <a:t>қан плазмасы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cc00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қан жасушала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3T09:09:49Z</dcterms:created>
  <dc:creator>комп</dc:creator>
  <dc:description/>
  <dc:language>en-US</dc:language>
  <cp:lastModifiedBy>Admin</cp:lastModifiedBy>
  <dcterms:modified xsi:type="dcterms:W3CDTF">2010-01-19T16:39:15Z</dcterms:modified>
  <cp:revision>7</cp:revision>
  <dc:subject/>
  <dc:title>Сабақтың жоспары</dc:title>
</cp:coreProperties>
</file>